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D351-3235-4842-9D29-EFBEA8AA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B253-A655-403E-A1A5-3AEA93AD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64B4-0D36-4E96-8B94-34A779722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1A9B-7F30-4ADE-AB98-1CC8D0DF8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A53C-D60E-4689-8883-A0C0F03F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C96F-E76F-402E-94C9-89BE1210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9360-B8A2-4E66-A776-01F3084A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3893-CC41-4696-9951-88A7D4B1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098C-F19A-4067-BE49-B43B4AF8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66F8-94B0-4622-94A1-78A24BBD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E371-7E55-405A-8A36-84A71A08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C855-F35F-419B-8D8B-C2A8AF95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EA01-150C-4B4A-903D-C5A0872B9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cc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orte"/>
              </a:rPr>
              <a:t>Culture Of Russi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How to Survive in a Russian Househ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cript MT Bold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92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420"/>
                            </p:stCondLst>
                            <p:childTnLst>
                              <p:par>
                                <p:cTn id="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D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Before me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e on time, no more than 15 minutes later than inv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outdoor shoes, you may be given slippers to w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ess well, clothes that you might wear to the office, dressing well shows respect for your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 to be treated with respect and ho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 help to the hostess with the preparation or clearing when the meal is served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During me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Manners are necessary, the fork is held in the left hand and the knife in the right hand while e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ldest or most honored guest is served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begin eating until the host invites you to  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helpings are ur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men pour drinks for women next to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get up until you are invited to leave th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0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9000"/>
                            </p:stCondLst>
                            <p:childTnLst>
                              <p:par>
                                <p:cTn id="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3000"/>
                            </p:stCondLst>
                            <p:childTnLst>
                              <p:par>
                                <p:cTn id="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7000"/>
                            </p:stCondLst>
                            <p:childTnLst>
                              <p:par>
                                <p:cTn id="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9000"/>
                            </p:stCondLst>
                            <p:childTnLst>
                              <p:par>
                                <p:cTn id="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1000"/>
                            </p:stCondLst>
                            <p:childTnLst>
                              <p:par>
                                <p:cTn id="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3000"/>
                            </p:stCondLst>
                            <p:childTnLst>
                              <p:par>
                                <p:cTn id="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Gift Giving Etique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ies and friends give gifts on birthdays, New Year, and Orthodox Christ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invited to dinner or meal, bring a small g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 guests bring fl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give yellow fl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give gifts to a baby until after the baby is born. It is bad luck to do so soo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ssians often protest against gifts out of politeness, but if you offer the gift again afterwards, it will usually be acce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68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68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998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998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998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7998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9998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1998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Delicacies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n meals and delicacies often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cht – soup made from b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chi – a type of soup made of cabb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roshki – meat styled like turno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linners – a type of rounded pa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vier – delicacy – eggs from the Sturgeon f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orte"/>
              </a:rPr>
              <a:t>Credi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Information by Liam Ro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Typed and Designed by Carmen Che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With help from Anthony F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With thanks to Mr. Griffith, and Wiki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5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48:33Z</dcterms:created>
  <dc:creator>RoNald</dc:creator>
  <dc:description/>
  <dc:language>en-US</dc:language>
  <cp:lastModifiedBy>Bowey</cp:lastModifiedBy>
  <dcterms:modified xsi:type="dcterms:W3CDTF">2010-12-16T20:49:57Z</dcterms:modified>
  <cp:revision>15</cp:revision>
  <dc:subject/>
  <dc:title>Slide 1</dc:title>
</cp:coreProperties>
</file>